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8.jpeg" ContentType="image/jpeg"/>
  <Override PartName="/ppt/media/image4.jpeg" ContentType="image/jpeg"/>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7E5B0-FB3B-4B50-8746-6B36A9AC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4E22-4B23-44F6-9DBF-6E81417D7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8AF046-4DB7-4442-86BA-C741B4991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30868C-CF4E-4E17-A475-171257143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2912B-8A5F-4408-B110-04E0A5060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774EE-A7F0-4564-8A83-0A05808CB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CF977-C506-4317-B79A-6AED971C7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CBF1A-3266-49FA-876F-134D0BC5FA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4C05D-20D1-4FD1-A69A-7D6FABC45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56900D-6152-4054-BBF2-0CE9EB5705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12957E-73B1-48F0-B2D3-7BCC85A4E4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9C69A-7E91-4BCB-9C69-25E50CAB4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15763-B700-466B-9569-19BB6F4F7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B3594-C381-4281-9166-B37FA9EF4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FB0D4-7A87-4150-A266-BCCE4976A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BA62-87D1-4931-ABE3-D5F1C53A4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4B29A-723E-42B8-95B6-7B20F0B8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83BC9-E772-4025-9725-82DBC2814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0B748-F4D8-45E8-837F-066FDAAFA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A37F-4445-4415-80CA-42850955D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69591-3868-4494-953F-6046A22D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62E3-35CF-4E66-8DF4-9DAECE02A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AAF1F-C7BD-48F7-9CEE-6920E99AE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B182F-953E-4675-BEFB-0E92AA382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B2EB6-9310-4A62-982B-F9D2DB7B2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E62AB-6276-49E2-8ED9-6C89BF435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D3AB68-DD93-4D2B-AFB2-B3BB652E28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4CA4A8-6BEE-452F-AC5C-E0C2FB670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DF5A44-D3C2-42AA-8004-E72AF5970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55E4CA-FC8E-4814-9804-EF2D52776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263D3E-DA2E-40D4-B9A3-E5B9DFECD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A0624-308B-4C2F-B2B8-49DAB58C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7DD212-A5A8-495E-9B8E-7CD6BC77C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090E51-F4D3-4685-BD4C-15F6B7164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20C3AB-F534-4C25-B96A-61A686A5C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3BF586-5569-4AA3-8359-B4478FC75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EC814C-EA55-4DA7-A6EE-C78CE0353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C84F77-A294-471D-B942-B1F576F80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13DF3C-CCF2-45BF-BC6B-1D330B393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6CC7FD-EA69-4F7D-950C-224095BCB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A00DF-37EE-47C7-AA3E-8173B8ABC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04F8A-DDF7-4A6F-A2C0-61F63F51A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8F70-7294-4FCB-9D03-318C24E0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97694-B1AA-425F-92CE-FC66C6464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4FFE3-A8F5-4962-AC7B-D3B533902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E9C61-39DE-45FA-B94D-62E1E5CF3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AE033-8129-4FC8-8CEC-DF6B4F2B2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6FEC8-4A6E-483E-B483-29E0A9A7A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F109C-FA90-402E-81A5-D0F22E829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E294F1-9F29-47BB-9BC7-F036A361E1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10EC9-47DE-4EAC-9734-4603B2600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484FE-AB49-4B90-837F-1F0F275DC4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80055E-2921-4C21-9C3C-BBB9461EA7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0536-356E-4738-9E6A-70BCD58A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E4D25D-D713-4127-B2CC-44DF75120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A501B8-893D-4548-9239-037325D98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451720-20B4-4E8F-BD3C-773FCC8DE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5DA66F-1828-4FA3-82FE-F6E4F89D4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7CDEEC-9A9A-4BDF-992B-9E5C68F4B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354211-3367-4A1B-BF55-142B0FC35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E87DD3-2368-484B-95ED-C89B18DC8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5C2AD8-3D3A-4D48-A659-E9778ACA4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E7BB89-5B5C-4889-8658-D1B81F8BC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8DBF51-0EBA-4A72-A452-A11A407EC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96EC-9D31-405A-87B3-A598648A3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F1E9B15-9DEB-44B5-94FB-50C615B98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5F136FD-C791-41F5-8F79-3928B2A69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2AF61E4-7337-42B3-928D-09BD4093B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28B7A4-05E2-4F02-B4B8-66C5AA728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BCBD51-8371-40CA-92E0-48955E292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19DDF9A-B61B-4111-9860-AA2785476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1DB4AC-DABC-4DBA-A580-C66EEFEA2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14ECC3-8C0F-4077-8528-7CDE21E0D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D45F0F-2C92-42E8-9503-CAA544419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2FC33E-C5BB-4466-A3D6-2DB847759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5444-E07D-48C6-B400-3F3F1D9E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19F0B69-5E9F-4721-A577-1DE50F7E7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CC89D66-0AF6-4CB0-B10D-F92E3C17E9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2ABD081-1841-4CFD-9EF7-4C371DBEA8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929A725-22A7-4763-B700-88883BE79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E70DEF-BDD6-4415-A371-C3B9D9264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909616-CB47-4587-B399-9EC99AA78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39C8A4-A487-47BD-A1E2-DC77FABEB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2051CD-479F-4864-8C46-37F2DCC49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99954C5-54FB-473B-8383-FAB8E83790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E0488D-5F28-44CC-BC10-40F0582CD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8515-4999-457E-96B1-851F4F7D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F21BA8-602C-4B0C-9BE3-CEE6E7FA9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FB807D-BFA8-470D-BC16-86620930C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CEA0F3-F3B9-4BD8-ABDC-B060F11E1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1562D3B-0E87-4C2F-A2CB-D8758BA0B4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020F68F-5855-4186-921D-1AEF969BEF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D059D1-DBFD-4A29-BB64-6FD402210A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44F2A-D3CB-4B75-BD58-D3E40BBD5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48CDC-1E60-48CC-867A-B2B333E15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2B03B-B83B-4466-B875-8546176C3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780031-D1D8-4844-8C84-9567640694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FB65-CB1B-47C6-9216-B840679B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6089D-4BB2-42E4-ACED-07679E1570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02927-5FA9-48ED-87A7-8D3185A78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92900-EF02-4526-85D2-1CE56AB46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B259C-3F39-4C2B-B45F-E6294BC1D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E9E8C-5328-4FED-863A-365E4E60D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B50365-AAFF-4081-94BB-FB116AA41E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D995AA-C0A9-4CFE-BBCD-3E9060812B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B7B91B-3695-41B6-B030-380A94AA6D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B543F-4D8D-4B7B-85B3-0B3F048C7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23CC9-6F37-44DE-B162-10CBD3AA71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D4CE-108F-4121-80DD-99D4FD8700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7AD4-BBA2-43F0-AC5D-77AE2AB69B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4334-E50C-4CDD-A0EE-D173C51359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onsolas"/>
              </a:rPr>
              <a:t>Click to edit the title text format</a:t>
            </a:r>
            <a:endParaRPr b="0" lang="en-US" sz="3000" spc="-1" strike="noStrike">
              <a:solidFill>
                <a:srgbClr val="d6ecff"/>
              </a:solidFill>
              <a:latin typeface="Consolas"/>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D156-1DBB-454A-BFC4-7DAB5F148A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B37A-8501-4A45-B6EA-63D07C60BD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8CFF-04EC-4770-8D1E-D51BEA8BAE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2F47-C013-41E1-9ECC-0590819E0B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8D90-8B7C-4A75-B471-DF4D9CAB91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CF87-37A7-4A34-8A96-1572597AC7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761760"/>
            <a:ext cx="777240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5b6f"/>
                </a:solidFill>
                <a:uFillTx/>
                <a:latin typeface="Consolas"/>
              </a:rPr>
              <a:t>I READ IT, BUT I DON’T GET IT:</a:t>
            </a:r>
            <a:br>
              <a:rPr sz="3000"/>
            </a:br>
            <a:r>
              <a:rPr b="1" lang="en-US" sz="2800" spc="-1" strike="noStrike" u="sng">
                <a:solidFill>
                  <a:srgbClr val="4e5b6f"/>
                </a:solidFill>
                <a:uFillTx/>
                <a:latin typeface="Consolas"/>
              </a:rPr>
              <a:t>COMPREHENSION STRATEGIES FOR ADOLESCENT READERS</a:t>
            </a:r>
            <a:br>
              <a:rPr sz="2800"/>
            </a:br>
            <a:br>
              <a:rPr sz="2800"/>
            </a:br>
            <a:r>
              <a:rPr b="1" lang="en-US" sz="2800" spc="-1" strike="noStrike">
                <a:solidFill>
                  <a:srgbClr val="4e5b6f"/>
                </a:solidFill>
                <a:latin typeface="Consolas"/>
              </a:rPr>
              <a:t>BY: CRIS TOVANI</a:t>
            </a:r>
            <a:endParaRPr b="0" lang="en-US" sz="2800" spc="-1" strike="noStrike">
              <a:solidFill>
                <a:srgbClr val="4e5b6f"/>
              </a:solidFill>
              <a:latin typeface="Consolas"/>
            </a:endParaRPr>
          </a:p>
        </p:txBody>
      </p:sp>
      <p:sp>
        <p:nvSpPr>
          <p:cNvPr id="446" name="PlaceHolder 2"/>
          <p:cNvSpPr>
            <a:spLocks noGrp="1"/>
          </p:cNvSpPr>
          <p:nvPr>
            <p:ph type="subTitle"/>
          </p:nvPr>
        </p:nvSpPr>
        <p:spPr>
          <a:xfrm>
            <a:off x="2286000" y="3580920"/>
            <a:ext cx="594360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5b6f"/>
                </a:solidFill>
                <a:latin typeface="Corbel"/>
              </a:rPr>
              <a:t>Professional Development Presentation </a:t>
            </a:r>
            <a:endParaRPr b="0" lang="en-US" sz="22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5b6f"/>
                </a:solidFill>
                <a:latin typeface="Corbel"/>
              </a:rPr>
              <a:t>By:  Janel Dowling and Trish Warner</a:t>
            </a:r>
            <a:endParaRPr b="0" lang="en-US" sz="2200" spc="-1" strike="noStrike">
              <a:solidFill>
                <a:srgbClr val="000000"/>
              </a:solidFill>
              <a:latin typeface="Corbe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FINAL THOUGHTS</a:t>
            </a:r>
            <a:endParaRPr b="0" lang="en-US" sz="3000" spc="-1" strike="noStrike">
              <a:solidFill>
                <a:srgbClr val="4e5b6f"/>
              </a:solidFill>
              <a:latin typeface="Consolas"/>
            </a:endParaRPr>
          </a:p>
        </p:txBody>
      </p:sp>
      <p:sp>
        <p:nvSpPr>
          <p:cNvPr id="471" name=""/>
          <p:cNvSpPr txBox="1"/>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Comprehension is messy.  There is no clear-cut path that the brain takes when making sense.  There are many roads the mind can travel as it burrows through layer after layer of meaning.  Good readers don’t read every document, book, or magazine article the same way.  They are aware of their thinking and consciously apply reading strategies that will help them cope with the demands of the task.”  (Tovani, 2000).</a:t>
            </a:r>
            <a:endParaRPr b="0" lang="en-US" sz="2800" spc="-1" strike="noStrike">
              <a:solidFill>
                <a:srgbClr val="000000"/>
              </a:solidFill>
              <a:latin typeface="Corbel"/>
            </a:endParaRPr>
          </a:p>
        </p:txBody>
      </p:sp>
      <p:pic>
        <p:nvPicPr>
          <p:cNvPr id="472" name="Picture 5" descr="http://tovanigroup.com/images/tg_banner.jpg"/>
          <p:cNvPicPr/>
          <p:nvPr/>
        </p:nvPicPr>
        <p:blipFill>
          <a:blip r:embed="rId1"/>
          <a:stretch/>
        </p:blipFill>
        <p:spPr>
          <a:xfrm>
            <a:off x="533520" y="5562720"/>
            <a:ext cx="7486560" cy="9334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MCED00271_0000[1]"/>
          <p:cNvPicPr/>
          <p:nvPr/>
        </p:nvPicPr>
        <p:blipFill>
          <a:blip r:embed="rId1"/>
          <a:stretch/>
        </p:blipFill>
        <p:spPr>
          <a:xfrm>
            <a:off x="609480" y="1523880"/>
            <a:ext cx="3584520" cy="3505320"/>
          </a:xfrm>
          <a:prstGeom prst="rect">
            <a:avLst/>
          </a:prstGeom>
          <a:ln w="0">
            <a:noFill/>
          </a:ln>
        </p:spPr>
      </p:pic>
      <p:sp>
        <p:nvSpPr>
          <p:cNvPr id="448"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ris Tovani – Why should we listen to her?</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eatures of her book</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Aha” moments</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 wonder. . .</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odeling Strategy:  Double-Entry Diaries</a:t>
            </a:r>
            <a:endParaRPr b="0" lang="en-US" sz="2800" spc="-1" strike="noStrike">
              <a:solidFill>
                <a:srgbClr val="000000"/>
              </a:solidFill>
              <a:latin typeface="Corbe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  </a:t>
            </a:r>
            <a:r>
              <a:rPr b="0" lang="en-US" sz="3000" spc="-1" strike="noStrike">
                <a:solidFill>
                  <a:srgbClr val="4e5b6f"/>
                </a:solidFill>
                <a:latin typeface="Consolas"/>
              </a:rPr>
              <a:t>TEXT FEATURES</a:t>
            </a:r>
            <a:endParaRPr b="0" lang="en-US" sz="3000" spc="-1" strike="noStrike">
              <a:solidFill>
                <a:srgbClr val="4e5b6f"/>
              </a:solidFill>
              <a:latin typeface="Consolas"/>
            </a:endParaRPr>
          </a:p>
        </p:txBody>
      </p:sp>
      <p:sp>
        <p:nvSpPr>
          <p:cNvPr id="45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l life experiences</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xamples citing current theories of comprehension instruction</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What Works”</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ppendix with reproducible materials</a:t>
            </a:r>
            <a:endParaRPr b="0" lang="en-US" sz="2400" spc="-1" strike="noStrike">
              <a:solidFill>
                <a:srgbClr val="000000"/>
              </a:solidFill>
              <a:latin typeface="Corbel"/>
            </a:endParaRPr>
          </a:p>
        </p:txBody>
      </p:sp>
      <p:pic>
        <p:nvPicPr>
          <p:cNvPr id="451" name="Picture 43" descr="http://www.stenhouse.com/shop/pc/catalog/images/0089.gif"/>
          <p:cNvPicPr/>
          <p:nvPr/>
        </p:nvPicPr>
        <p:blipFill>
          <a:blip r:embed="rId1"/>
          <a:stretch/>
        </p:blipFill>
        <p:spPr>
          <a:xfrm>
            <a:off x="533520" y="228600"/>
            <a:ext cx="2361960" cy="29494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1:</a:t>
            </a:r>
            <a:br>
              <a:rPr sz="3600"/>
            </a:br>
            <a:r>
              <a:rPr b="0" lang="en-US" sz="3600" spc="-1" strike="noStrike">
                <a:solidFill>
                  <a:srgbClr val="4e5b6f"/>
                </a:solidFill>
                <a:latin typeface="Consolas"/>
              </a:rPr>
              <a:t>FAKE READING</a:t>
            </a:r>
            <a:endParaRPr b="0" lang="en-US" sz="3600" spc="-1" strike="noStrike">
              <a:solidFill>
                <a:srgbClr val="4e5b6f"/>
              </a:solidFill>
              <a:latin typeface="Consolas"/>
            </a:endParaRPr>
          </a:p>
        </p:txBody>
      </p:sp>
      <p:sp>
        <p:nvSpPr>
          <p:cNvPr id="453" name=""/>
          <p:cNvSpPr txBox="1"/>
          <p:nvPr/>
        </p:nvSpPr>
        <p:spPr>
          <a:xfrm>
            <a:off x="456840" y="1600200"/>
            <a:ext cx="7467480" cy="4873680"/>
          </a:xfrm>
          <a:prstGeom prst="rect">
            <a:avLst/>
          </a:prstGeom>
          <a:noFill/>
          <a:ln w="0">
            <a:noFill/>
          </a:ln>
        </p:spPr>
        <p:txBody>
          <a:bodyPr lIns="90000" rIns="90000" tIns="46800" bIns="46800" anchor="t">
            <a:normAutofit fontScale="93000"/>
          </a:bodyPr>
          <a:p>
            <a:pPr marL="253440" indent="-25344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haring personal experiences</a:t>
            </a:r>
            <a:endParaRPr b="0" lang="en-US" sz="2800" spc="-1" strike="noStrike">
              <a:solidFill>
                <a:srgbClr val="000000"/>
              </a:solidFill>
              <a:latin typeface="Corbel"/>
            </a:endParaRPr>
          </a:p>
          <a:p>
            <a:pPr marL="253440" indent="-25344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ays to avoid fake reading</a:t>
            </a:r>
            <a:endParaRPr b="0" lang="en-US" sz="2800" spc="-1" strike="noStrike">
              <a:solidFill>
                <a:srgbClr val="000000"/>
              </a:solidFill>
              <a:latin typeface="Corbel"/>
            </a:endParaRPr>
          </a:p>
          <a:p>
            <a:pPr lvl="1" marL="594720" indent="-25344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Literary Histories”</a:t>
            </a:r>
            <a:endParaRPr b="0" lang="en-US" sz="2400" spc="-1" strike="noStrike">
              <a:solidFill>
                <a:srgbClr val="000000"/>
              </a:solidFill>
              <a:latin typeface="Corbel"/>
            </a:endParaRPr>
          </a:p>
          <a:p>
            <a:pPr lvl="1" marL="594720" indent="-25344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What Good Readers Do” – student generated</a:t>
            </a:r>
            <a:endParaRPr b="0" lang="en-US" sz="2400" spc="-1" strike="noStrike">
              <a:solidFill>
                <a:srgbClr val="000000"/>
              </a:solidFill>
              <a:latin typeface="Corbel"/>
            </a:endParaRPr>
          </a:p>
          <a:p>
            <a:pPr lvl="1" marL="59472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Some kids are born good readers and some kids</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ren’t.  I’ve always been a bad reader and I always </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ll be.  It’s too late for me.” – Courtney</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vani, 2000).</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454" name="Picture 12" descr="C:\Users\Admin\AppData\Local\Microsoft\Windows\Temporary Internet Files\Content.IE5\0UWJ1J8O\MCj04379900000[1].wmf"/>
          <p:cNvPicPr/>
          <p:nvPr/>
        </p:nvPicPr>
        <p:blipFill>
          <a:blip r:embed="rId1"/>
          <a:stretch/>
        </p:blipFill>
        <p:spPr>
          <a:xfrm>
            <a:off x="6324480" y="304920"/>
            <a:ext cx="1816200" cy="17301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2:</a:t>
            </a:r>
            <a:br>
              <a:rPr sz="3600"/>
            </a:br>
            <a:r>
              <a:rPr b="0" lang="en-US" sz="3600" spc="-1" strike="noStrike">
                <a:solidFill>
                  <a:srgbClr val="4e5b6f"/>
                </a:solidFill>
                <a:latin typeface="Consolas"/>
              </a:rPr>
              <a:t>HOW DO I KNOW I’M STUCK?</a:t>
            </a:r>
            <a:endParaRPr b="0" lang="en-US" sz="3600" spc="-1" strike="noStrike">
              <a:solidFill>
                <a:srgbClr val="4e5b6f"/>
              </a:solidFill>
              <a:latin typeface="Consolas"/>
            </a:endParaRPr>
          </a:p>
        </p:txBody>
      </p:sp>
      <p:sp>
        <p:nvSpPr>
          <p:cNvPr id="4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voic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camera</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ind wander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an’t remember</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estions not answered</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ost track of story elements</a:t>
            </a:r>
            <a:endParaRPr b="0" lang="en-US" sz="2400" spc="-1" strike="noStrike">
              <a:solidFill>
                <a:srgbClr val="000000"/>
              </a:solidFill>
              <a:latin typeface="Corbel"/>
            </a:endParaRPr>
          </a:p>
        </p:txBody>
      </p:sp>
      <p:pic>
        <p:nvPicPr>
          <p:cNvPr id="457" name="Picture 4" descr="C:\Users\Admin\AppData\Local\Microsoft\Windows\Temporary Internet Files\Content.IE5\ZOO2BRAH\MPj01788430000[1].jpg"/>
          <p:cNvPicPr/>
          <p:nvPr/>
        </p:nvPicPr>
        <p:blipFill>
          <a:blip r:embed="rId1"/>
          <a:stretch/>
        </p:blipFill>
        <p:spPr>
          <a:xfrm>
            <a:off x="6553080" y="380880"/>
            <a:ext cx="1470240" cy="22100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3:</a:t>
            </a:r>
            <a:br>
              <a:rPr sz="3600"/>
            </a:br>
            <a:r>
              <a:rPr b="0" lang="en-US" sz="3600" spc="-1" strike="noStrike">
                <a:solidFill>
                  <a:srgbClr val="4e5b6f"/>
                </a:solidFill>
                <a:latin typeface="Consolas"/>
              </a:rPr>
              <a:t>STRATEGIES TO “FIX UP” CONFUSION</a:t>
            </a:r>
            <a:endParaRPr b="0" lang="en-US" sz="3600" spc="-1" strike="noStrike">
              <a:solidFill>
                <a:srgbClr val="4e5b6f"/>
              </a:solidFill>
              <a:latin typeface="Consolas"/>
            </a:endParaRPr>
          </a:p>
        </p:txBody>
      </p:sp>
      <p:sp>
        <p:nvSpPr>
          <p:cNvPr id="4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nect</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dict</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op and think </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estion</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lect in writing</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isualize</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 print conventions</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tell</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read</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tice patterns and text structure</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just reading rate</a:t>
            </a:r>
            <a:endParaRPr b="0" lang="en-US" sz="2400" spc="-1" strike="noStrike">
              <a:solidFill>
                <a:srgbClr val="000000"/>
              </a:solidFill>
              <a:latin typeface="Corbel"/>
            </a:endParaRPr>
          </a:p>
        </p:txBody>
      </p:sp>
      <p:pic>
        <p:nvPicPr>
          <p:cNvPr id="460" name="Picture 5" descr="MCj04298270000[1]"/>
          <p:cNvPicPr/>
          <p:nvPr/>
        </p:nvPicPr>
        <p:blipFill>
          <a:blip r:embed="rId1"/>
          <a:stretch/>
        </p:blipFill>
        <p:spPr>
          <a:xfrm>
            <a:off x="5334120" y="2362320"/>
            <a:ext cx="1600200" cy="195552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e5b6f"/>
                </a:solidFill>
                <a:uFillTx/>
                <a:latin typeface="Consolas"/>
              </a:rPr>
              <a:t>MODELING STRATEGY:</a:t>
            </a:r>
            <a:br>
              <a:rPr sz="3600"/>
            </a:br>
            <a:r>
              <a:rPr b="0" lang="en-US" sz="3600" spc="-1" strike="noStrike" u="sng">
                <a:solidFill>
                  <a:srgbClr val="4e5b6f"/>
                </a:solidFill>
                <a:uFillTx/>
                <a:latin typeface="Consolas"/>
              </a:rPr>
              <a:t>I WONDER . . .</a:t>
            </a:r>
            <a:r>
              <a:rPr b="0" lang="en-US" sz="3600" spc="-1" strike="noStrike">
                <a:solidFill>
                  <a:srgbClr val="4e5b6f"/>
                </a:solidFill>
                <a:latin typeface="Consolas"/>
              </a:rPr>
              <a:t> </a:t>
            </a:r>
            <a:endParaRPr b="0" lang="en-US" sz="3600" spc="-1" strike="noStrike">
              <a:solidFill>
                <a:srgbClr val="4e5b6f"/>
              </a:solidFill>
              <a:latin typeface="Consolas"/>
            </a:endParaRPr>
          </a:p>
        </p:txBody>
      </p:sp>
      <p:sp>
        <p:nvSpPr>
          <p:cNvPr id="462"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The good news is that questioning is a strategy that can be taught in connection with any subject, to students of all abilities.  Readers who are taught how to question the text can infer and clear up confusion better than those who simply decode words and accept ideas unchallenged,”  (Tovani, 2000).</a:t>
            </a:r>
            <a:endParaRPr b="0" lang="en-US" sz="2800" spc="-1" strike="noStrike">
              <a:solidFill>
                <a:srgbClr val="000000"/>
              </a:solidFill>
              <a:latin typeface="Corbel"/>
            </a:endParaRPr>
          </a:p>
        </p:txBody>
      </p:sp>
      <p:pic>
        <p:nvPicPr>
          <p:cNvPr id="463" name="Picture 6" descr="MCj04343890000[1]"/>
          <p:cNvPicPr/>
          <p:nvPr/>
        </p:nvPicPr>
        <p:blipFill>
          <a:blip r:embed="rId1"/>
          <a:stretch/>
        </p:blipFill>
        <p:spPr>
          <a:xfrm>
            <a:off x="380880" y="228600"/>
            <a:ext cx="1371600" cy="190188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e5b6f"/>
                </a:solidFill>
                <a:uFillTx/>
                <a:latin typeface="Consolas"/>
              </a:rPr>
              <a:t>MODELING STRATEGY:</a:t>
            </a:r>
            <a:br>
              <a:rPr sz="3600"/>
            </a:br>
            <a:r>
              <a:rPr b="0" lang="en-US" sz="3600" spc="-1" strike="noStrike" u="sng">
                <a:solidFill>
                  <a:srgbClr val="4e5b6f"/>
                </a:solidFill>
                <a:uFillTx/>
                <a:latin typeface="Consolas"/>
              </a:rPr>
              <a:t>USING DOUBLE-ENTRY DIARIES</a:t>
            </a:r>
            <a:r>
              <a:rPr b="0" lang="en-US" sz="3600" spc="-1" strike="noStrike">
                <a:solidFill>
                  <a:srgbClr val="4e5b6f"/>
                </a:solidFill>
                <a:latin typeface="Consolas"/>
              </a:rPr>
              <a:t>  </a:t>
            </a:r>
            <a:endParaRPr b="0" lang="en-US" sz="3600" spc="-1" strike="noStrike">
              <a:solidFill>
                <a:srgbClr val="4e5b6f"/>
              </a:solidFill>
              <a:latin typeface="Consolas"/>
            </a:endParaRPr>
          </a:p>
        </p:txBody>
      </p:sp>
      <p:sp>
        <p:nvSpPr>
          <p:cNvPr id="465"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Direct quote from text and page number</a:t>
            </a:r>
            <a:endParaRPr b="0" lang="en-US" sz="2400" spc="-1" strike="noStrike">
              <a:solidFill>
                <a:srgbClr val="000000"/>
              </a:solidFill>
              <a:latin typeface="Corbel"/>
            </a:endParaRPr>
          </a:p>
        </p:txBody>
      </p:sp>
      <p:sp>
        <p:nvSpPr>
          <p:cNvPr id="466" name=""/>
          <p:cNvSpPr txBox="1"/>
          <p:nvPr/>
        </p:nvSpPr>
        <p:spPr>
          <a:xfrm>
            <a:off x="4266720" y="1600200"/>
            <a:ext cx="4419720" cy="46483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Thinking option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reminds me of</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wonder</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infer/I think this mean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is important becaus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am confused becaus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picture in my head looks lik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USING DOUBLE-ENTRY DIARIES:</a:t>
            </a:r>
            <a:br>
              <a:rPr sz="3600"/>
            </a:br>
            <a:r>
              <a:rPr b="0" lang="en-US" sz="3200" spc="-1" strike="noStrike">
                <a:solidFill>
                  <a:srgbClr val="4e5b6f"/>
                </a:solidFill>
                <a:latin typeface="Consolas"/>
              </a:rPr>
              <a:t>CONTENT AREA APPLICATIONS</a:t>
            </a:r>
            <a:endParaRPr b="0" lang="en-US" sz="3200" spc="-1" strike="noStrike">
              <a:solidFill>
                <a:srgbClr val="4e5b6f"/>
              </a:solidFill>
              <a:latin typeface="Consolas"/>
            </a:endParaRPr>
          </a:p>
        </p:txBody>
      </p:sp>
      <p:sp>
        <p:nvSpPr>
          <p:cNvPr id="4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ist interesting facts or detail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fusing part in text</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erm/Vocabulary word causing confusion</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s the author’s messag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 did to try to get unstuck</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 know about the term/confusion</a:t>
            </a:r>
            <a:endParaRPr b="0" lang="en-US" sz="2400" spc="-1" strike="noStrike">
              <a:solidFill>
                <a:srgbClr val="000000"/>
              </a:solidFill>
              <a:latin typeface="Corbel"/>
            </a:endParaRPr>
          </a:p>
        </p:txBody>
      </p:sp>
      <p:pic>
        <p:nvPicPr>
          <p:cNvPr id="469" name="Picture 4" descr="C:\Users\Admin\AppData\Local\Microsoft\Windows\Temporary Internet Files\Content.IE5\BOM6E0TB\MPj04395370000[1].jpg"/>
          <p:cNvPicPr/>
          <p:nvPr/>
        </p:nvPicPr>
        <p:blipFill>
          <a:blip r:embed="rId1"/>
          <a:stretch/>
        </p:blipFill>
        <p:spPr>
          <a:xfrm>
            <a:off x="6553080" y="304920"/>
            <a:ext cx="2035440" cy="304776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3:21:01Z</dcterms:created>
  <dc:creator>Janel Dowling</dc:creator>
  <dc:description/>
  <dc:language>en-US</dc:language>
  <cp:lastModifiedBy>Admin</cp:lastModifiedBy>
  <dcterms:modified xsi:type="dcterms:W3CDTF">2009-04-01T17:05:24Z</dcterms:modified>
  <cp:revision>18</cp:revision>
  <dc:subject/>
  <dc:title>I Read It, but I Don’t Get It Comprehension Strategies For Adolescent Readers  By: Cris Tovani</dc:title>
</cp:coreProperties>
</file>